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2627-A427-4436-84F5-0A51EA1A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B5AE-6AD5-4A16-8E5C-B51C9871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DE87-558E-465B-8C52-FE9E98230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6159-E12A-4300-B151-541F15E1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503E-89D8-438F-A234-36EA08A6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B205-35B1-495B-9CB0-B91398F6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A512-4E7E-49C2-AFF4-A2EBA63A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690E-79EE-431F-A8F1-DF23A330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A36D-D22E-43F6-882F-AF996117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B382-2C98-447F-821B-0C12DEB0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CF52-5AD5-4C72-8378-8E2EFD04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5F23-74A5-4C8A-BC02-68EBF128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8854-0ECC-46BF-A5A4-DEFC9BDBC0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10C Simultaneous equations and break-even point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mbria Math"/>
              </a:rPr>
              <a:t>Solving linear simultaneous equations</a:t>
            </a:r>
            <a:endParaRPr b="0" lang="en-US" sz="40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ach pair of points x and y which satisfy an equation of a straight line will be coordinates of a point on that line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 point where two lines intersect satisfies both equations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You can solve simultaneous equations graphically or algebraically using the substitution method or the elimination method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, Ex 10C, 1a, 1c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Break-even analysis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In a business, Profit = revenue – costs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Revenue is the money a company earns through sales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Costs include labour, raw materials, equipment that go into making the product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If costs exceed revenue, the business makes a loss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If costs equal revenue, there will be neither profit or loss. This is the </a:t>
            </a:r>
            <a:r>
              <a:rPr b="1" lang="en-AU" sz="3200" spc="-1" strike="noStrike">
                <a:solidFill>
                  <a:srgbClr val="000000"/>
                </a:solidFill>
                <a:latin typeface="Cambria Math"/>
              </a:rPr>
              <a:t>break-even point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, Ex 10C, Q.4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You do Ex 10C, 5, 6, 8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01:24:43Z</dcterms:created>
  <dc:creator>08843474</dc:creator>
  <dc:description/>
  <dc:language>en-US</dc:language>
  <cp:lastModifiedBy>08843474</cp:lastModifiedBy>
  <dcterms:modified xsi:type="dcterms:W3CDTF">2011-06-02T02:11:21Z</dcterms:modified>
  <cp:revision>2</cp:revision>
  <dc:subject/>
  <dc:title>10C Simultaneous equations and break-even point</dc:title>
</cp:coreProperties>
</file>